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2EC-9D7B-4605-8AAC-8DDFBED5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B6C-C3DF-4B08-9403-11856DBC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453-94D9-4233-9E1F-E86EADD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DA2-D445-49B7-A1E5-9468F140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68CD-0B5E-4047-8901-C9A04C0E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39C5-E580-4041-9F5D-6C77BA75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B715-C963-4BA8-B223-6C220A4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E63D-7C14-4C77-8063-A77A010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0E27-15D1-4B2A-BB7A-DBBF7F4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7C08-E25D-4595-85B3-645900BE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96B-4495-4ADD-A875-1617288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D4D-5839-49E3-9E7E-28F2278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361-2F7F-4BA1-9EBE-99F152A1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637-EAD8-4BA4-BEC5-9623612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B229-DD3A-4B30-8DB0-5D5ADE9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A3DA-19A9-48C3-930E-E34DCD0A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90E7-F9F4-46FC-B904-77DA3C36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ECF-48E8-46D8-BA29-A1C2C16E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02A-8132-4D0A-8E20-A8381F57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F4F-8C5B-4502-80D1-6D1DCF9D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D28-F91D-4879-9692-95F9722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73E-A9AD-4607-84EF-5AA3C93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48A-6E7D-4172-8E52-A4AC4B27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E5D-792D-438E-A590-575BFE2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FCFE-99B3-4FED-B7D5-F47517572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D5CD-5CE5-4C91-BDED-40DFF15E2B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Britannic Bold"/>
              </a:rPr>
              <a:t>A Weed is a Flower</a:t>
            </a:r>
            <a:br>
              <a:rPr sz="6600"/>
            </a:br>
            <a:br>
              <a:rPr sz="5800"/>
            </a:br>
            <a:r>
              <a:rPr b="0" lang="en-US" sz="2800" spc="-1" strike="noStrike">
                <a:solidFill>
                  <a:srgbClr val="999900"/>
                </a:solidFill>
                <a:latin typeface="Britannic Bold"/>
              </a:rPr>
              <a:t>The Life of George Washington Carver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24816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 3*Week 5*Day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ence Rea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They had a backyard birthday party for their oldest daughter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Matt fished alone by the riverbank for half a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He caught the biggest, fattest catfish ever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ho’s the youngest baseball player on the team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e cannot buy the larger toybox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e played basketball in the driveway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 scored many points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6:11:53Z</dcterms:created>
  <dc:creator>llefever</dc:creator>
  <dc:description/>
  <dc:language>en-US</dc:language>
  <cp:lastModifiedBy>teacher</cp:lastModifiedBy>
  <dcterms:modified xsi:type="dcterms:W3CDTF">2010-12-06T02:53:32Z</dcterms:modified>
  <cp:revision>3</cp:revision>
  <dc:subject/>
  <dc:title>A Weed is a Flower  The Life of George Washington Car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056317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Scott Foresman 2nd grade </vt:lpwstr>
  </property>
</Properties>
</file>